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8F1-40FC-4B7D-B20D-67CCB215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178-E861-4D3D-85F7-0013F7C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C28-125D-47AF-92F8-A5717F3E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AAD-BB2A-4461-BDBC-6ED2DC8C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167-334C-4007-96DD-236FB27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CD0-6590-401F-869B-906997A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2BA4-2F45-4D61-9F0D-8B142255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3F5-E220-4D36-986D-2137EEB4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0D92-CC4B-4D35-934A-45F7F46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563-671D-4EF2-AAD5-3B677C6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7662-711A-46A2-881C-2AF43A5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66D-E914-4F86-B5F3-E2FD16A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819-CC12-4B1F-8E18-E64842E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98B-1EB3-40F7-A4FF-3C8EEA9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BB02-BC82-4552-B7CB-295174C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5535-74FB-44BC-93EF-800A6485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AF2C-C3FD-4FFC-B5F3-8A6528E9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CB8-D97A-43FC-BA01-4A5C71E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AC8-5677-4A53-981B-11836FC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EAB-0E38-45D3-83B0-4B10275E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880-ADF4-4979-BC25-DF7B313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18E-A6C2-4F08-B73B-A4E04BC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D48-7C3B-4989-A3CB-9B4595CA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DAC-165E-4225-B966-C5386A7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8F4BE-A7AF-4F88-B1F7-B9CB8E057E0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A282B-6FB7-4D35-B43E-13A845A91C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919C7-79B1-4FCD-A09A-177CBC4366CE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BCD2F-1F3A-4757-8C56-B5C7CEDEF88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jAUm_0wf9s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FHYXaNhGL0o&amp;feature=related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y: Amber Car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er conta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equence of mining coal and miner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from iron sulfides reacting to air and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s sulfuric acid and dissolved i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705120" y="0"/>
            <a:ext cx="5340600" cy="670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730160"/>
            <a:ext cx="84582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cipitate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ored sedi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id runoff dissol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ther heavy meta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o the ground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re impacts on fish, plants and other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bodies of water affected by AMD have a pH of 4 or less. (Similar to battery aci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have severe effects on humans as w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bjAUm_0wf9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590920" y="2475000"/>
            <a:ext cx="6553080" cy="438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834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6368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/3 of impacted waters are in P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wo most heavily mined states in the Appalachi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k of limestone form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youtube.com/watch?v=FHYXaNhGL0o&amp;feature=rel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9" name="Susquehanna" descr=""/>
          <p:cNvPicPr/>
          <p:nvPr/>
        </p:nvPicPr>
        <p:blipFill>
          <a:blip r:embed="rId3"/>
          <a:stretch/>
        </p:blipFill>
        <p:spPr>
          <a:xfrm>
            <a:off x="3429000" y="2289240"/>
            <a:ext cx="5715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evention and Remedi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ersion ditches and pi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izing acidity with chemicals such as ammo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mestone is a natural neutraliz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ilding of wet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id Mine Drainage-http://www.cee.vt.edu/ewr/environmental/teach/gwprimer/acidmine/acidmine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arthworks-http://www.earthworksaction.org/amd.cf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Sourc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52:49Z</dcterms:created>
  <dc:creator>PA Department of Education Classrooms for the Future</dc:creator>
  <dc:description/>
  <dc:language>en-US</dc:language>
  <cp:lastModifiedBy>Amber</cp:lastModifiedBy>
  <dcterms:modified xsi:type="dcterms:W3CDTF">2011-02-23T01:14:16Z</dcterms:modified>
  <cp:revision>6</cp:revision>
  <dc:subject/>
  <dc:title>Acid Mine Drainage</dc:title>
</cp:coreProperties>
</file>